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D10D8-F7B4-437A-BA7C-C3C35A4A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FF204-BA6C-4067-B443-22F07AD5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AF03A-F7B8-4FE0-B5E9-83E61A97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2510-F260-4DB3-AA56-EF8888C4F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B240-E3F7-482D-95C7-5BE5D797E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D77B-954A-463A-9CC5-2771855FE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74D8-706D-493F-A4FC-CE21E89EC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B851-E1A1-4F64-9C2C-633152B420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B771-6DE2-49C1-A807-CE0BB846F1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A904-394D-4804-B8A2-6682F1F55A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B0D0-BC94-45BD-8CB6-690300870E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20DC-8AB7-4304-908E-CE1925C1CF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BC17-E4D1-4B34-A063-0D7BB33899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BB75-4AAD-4817-B2F1-D1E1B82C1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6C77-1603-42E6-8A5B-1D3457D34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75D3-D04E-44AD-9E86-79F867312A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6027-7D4A-4407-92BD-A60AA6C74D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62B8-3412-4CEA-8B69-E8E98FBAA5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8F53-0B32-41E4-BFB6-C6BFFF5598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437B-C8E2-4920-82DE-B9357EC37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45D6-0238-44CA-AA4C-6A7D63712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FBB8-A7BB-45D6-997E-BE9E40442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ECCE-7117-4828-B3AF-BFF292668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EB2D-FFAB-45C3-A63C-125B5F056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3C78-1874-455C-9F1A-05EB75D6F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2E99-2EFA-4ADC-9C58-500656EEA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49C9-2BDD-48C3-8961-56CAB487D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591C1-EF30-4809-AA2E-B5FA324435E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37484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0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DEF1F-2596-4264-BAB0-9F249243D5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GRIN: A Graph Based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RDF Index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962520"/>
            <a:ext cx="655344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avian Udre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a Puglie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S. Subrahmania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aryland Colleg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à di Calab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ative RDF systems: RDFBro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ek et al., ESWC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tabase schema is built based 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ignatures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t of properties used on a re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the number of joins between t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B83A3-A465-4E7F-904C-99D0C5A94F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3A6E1-0124-4186-946B-03B85E431B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784840" y="2286000"/>
            <a:ext cx="335916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BBEB6-E054-45C0-8B40-459A19A7A1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97440" y="2286000"/>
            <a:ext cx="334656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3352680" cy="1641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2DC7CD-424E-4289-A4C7-BAD358BF3C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238880" y="3200400"/>
            <a:ext cx="838440" cy="8380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E719B-B591-4854-B246-54933C21AD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97440" y="2286000"/>
            <a:ext cx="3346560" cy="1636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238880" y="3200400"/>
            <a:ext cx="838440" cy="8380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44280" y="990720"/>
            <a:ext cx="5667480" cy="5140080"/>
            <a:chOff x="44280" y="990720"/>
            <a:chExt cx="5667480" cy="51400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4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human persp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8A16C-0EED-4F7B-82FA-C7DA4264C1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7440" y="2286000"/>
            <a:ext cx="3346560" cy="163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238880" y="3200400"/>
            <a:ext cx="838440" cy="8380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276720"/>
            <a:ext cx="762120" cy="7617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143000"/>
            <a:ext cx="762120" cy="762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RDF data and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RIN Index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Answering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Experimental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E460E-C6FE-416C-88DF-9EFE8CBBD1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IN intu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 “closer” in the RDF graph are more likely to be part of the same ans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Hence they should appear on the same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IN will group resources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irc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ound select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enter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 evalu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Find the smallest circle that contains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Evaluate query only on resources in that cir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62CE9-66D1-43C2-AFC1-DEA61D85B9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GRIN Index structu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IN is a binary tree in whi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Leaf nodes are sets of resources (and the associated trip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ner nodes are circles consisting of a center resource and a radi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Each node is fully contained in its 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 metric: shortest path distance in the undirected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D8E20-525F-43CF-88AA-5DE9D6746B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371600" y="838080"/>
            <a:ext cx="5697360" cy="5140440"/>
            <a:chOff x="1371600" y="838080"/>
            <a:chExt cx="5697360" cy="514044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1371600" y="838080"/>
              <a:ext cx="569736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71600" y="838080"/>
              <a:ext cx="5697360" cy="51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92205-D0D6-4EF0-802B-EBF8F73751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30312-AE36-49EC-98EE-2C3099836F9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enty of large RDF datase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TAP, GovTrack, ChefMoz, CIA World Factb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any many more (see rdfdata.or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 languages: RDQL, RQL, SPAR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B systems: Jena, Sesame, RDFBro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x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Based on relational database inde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Has to be rooted in the characteristics of the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371600" y="838080"/>
            <a:ext cx="5697360" cy="5140440"/>
            <a:chOff x="1371600" y="838080"/>
            <a:chExt cx="5697360" cy="514044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371600" y="838080"/>
              <a:ext cx="569736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371600" y="838080"/>
              <a:ext cx="5697360" cy="51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902BBC-8C9B-45F4-A139-5250F11EFD3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371600" y="838080"/>
            <a:ext cx="5697360" cy="5140440"/>
            <a:chOff x="1371600" y="838080"/>
            <a:chExt cx="5697360" cy="514044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1371600" y="838080"/>
              <a:ext cx="569736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71600" y="838080"/>
              <a:ext cx="5697360" cy="51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CB593-AA09-40BD-9B8A-3FF28489C0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7920" y="838080"/>
            <a:ext cx="5902200" cy="5292720"/>
            <a:chOff x="1447920" y="838080"/>
            <a:chExt cx="5902200" cy="52927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447920" y="838080"/>
              <a:ext cx="5902200" cy="52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47920" y="838080"/>
              <a:ext cx="5902200" cy="52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67979-365A-42A9-89AF-EA9343039A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cluste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k-medoids clustering (Kaufman &amp; Rousseeuw, 198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cluster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R is the set of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 is the maximum number of resources per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erage link gives the best performance for the inter-cluster d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6131F-E084-47AA-9ECA-45516A3A84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43400" y="2819520"/>
                <a:ext cx="1981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the tr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7B6CD-EF1B-4E58-91E5-B863AB98B0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880" y="4952880"/>
            <a:ext cx="8229600" cy="1116000"/>
            <a:chOff x="380880" y="4952880"/>
            <a:chExt cx="8229600" cy="1116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380880" y="4952880"/>
              <a:ext cx="8229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80880" y="4952880"/>
              <a:ext cx="822960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the tr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38054-7D93-403D-AFE3-3FCBC53E62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0880" y="3809880"/>
            <a:ext cx="8229600" cy="2252880"/>
            <a:chOff x="380880" y="3809880"/>
            <a:chExt cx="8229600" cy="22528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80880" y="3809880"/>
              <a:ext cx="8229600" cy="22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80880" y="3809880"/>
              <a:ext cx="822960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the index: the tr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F18A85-35B6-431F-9FD2-6BA00836F8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880" y="1905120"/>
            <a:ext cx="8229600" cy="4160880"/>
            <a:chOff x="380880" y="1905120"/>
            <a:chExt cx="8229600" cy="41608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380880" y="1905120"/>
              <a:ext cx="82296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80880" y="1905120"/>
              <a:ext cx="8229600" cy="41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RDF data and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The GRIN Index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swering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Experimental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6731BB-F19D-4EDB-A0C1-FC9FF9143D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ies to constra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ct constraints from the que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?v1, Italian) ≤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?v2, Norfolk) ≤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?v3, Italian) ≤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and so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B4C2F-A0F2-4066-9862-9A0AF91F45A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146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evalu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9D515-C79B-487A-B672-D32CE8EF8C0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: identify the smallest circle that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s guarante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ntain an answer to the 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 a depth-first travers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index node, evaluate the 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constraints guarantee an answer, perform subgraph mat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ibu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weight mechanism for indexing large RDF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GR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raph-bas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 answer algorithms for SPARQL-like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 on two real-world datasets: TAP (Stanford) and ChefMoz (chefmoz.or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8EC5B4-9AB3-4633-BCE2-984227331E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457200" y="1785960"/>
            <a:ext cx="8229600" cy="4159080"/>
            <a:chOff x="457200" y="1785960"/>
            <a:chExt cx="8229600" cy="415908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457200" y="1785960"/>
              <a:ext cx="8229600" cy="41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57200" y="1785960"/>
              <a:ext cx="8229600" cy="41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evalu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33D7C-AF06-4B02-B7A1-EEEE9C747A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3581280"/>
            <a:ext cx="1066680" cy="11430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aluating constra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?v1, Italian) ≤ 1, d(?v2, Norfolk) ≤ 1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(?v3, Italian) ≤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is ?v1 in the circle (Grivanti, 3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Grivanti,?v1) ≤ d(Grivanti, Italian) 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(?v1, Italia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≤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+ 1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?v1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ust b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 the circle (Grivanti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9C0551-35B6-41F0-BB36-7F4FF4016C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aluating constra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is ?v3 in (Grivanti, 3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d(Grivanti, ?v3) ≤ d(Grivanti, Italian) 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(Italian, ?v3) 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+ 2 =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?v3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ust b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 (Grivanti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Similarly, ?v2 is in the same cir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B9D6CC-5D64-4BE9-8DB8-BA9D1C5393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bgraph match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 subgraph matching on the resources in the circles guaranteed to contain an ans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Algorithm by Cordella et. al, IEEE PAMI 26(10),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st-time complexity of O(N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Where N is the maximum number of nodes in either 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 practice, GRIN makes N very sm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E7FD0-C09D-49B4-892E-D1C1F6EF2A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RDF data and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The GRIN Index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Answering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erimental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15473-3098-4319-A82B-9E42C6AC288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frame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between GRIN, Sesame, Jena2 and RDFBroker (in-memo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Index buil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Memory consumption at query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Query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al-world datase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TAP (Stanford): datasets between 1.5MB and 300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ChefMoz (chefmoz.org): 220 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9C6CEA-86B0-4342-BC4E-A9AE609961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 build ti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EAD57C-B8F6-49C8-98AB-5D71E1F31C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0720" y="1596960"/>
            <a:ext cx="8242560" cy="4541760"/>
            <a:chOff x="450720" y="1596960"/>
            <a:chExt cx="8242560" cy="454176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0720" y="1596960"/>
              <a:ext cx="824256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consum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15572-2B96-42F6-BAC4-4AF218EA02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0720" y="1596960"/>
            <a:ext cx="8242560" cy="4541760"/>
            <a:chOff x="450720" y="1596960"/>
            <a:chExt cx="8242560" cy="454176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50720" y="1596960"/>
              <a:ext cx="824256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ti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9B25F-FC89-41FB-99BF-7C695B4036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50720" y="1596960"/>
            <a:ext cx="8242560" cy="4541760"/>
            <a:chOff x="450720" y="1596960"/>
            <a:chExt cx="8242560" cy="45417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0720" y="1596960"/>
              <a:ext cx="824256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verage degree of a query no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D77CF-FD51-4402-9055-BD0FB2CD60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50720" y="1596960"/>
            <a:ext cx="8242560" cy="4541760"/>
            <a:chOff x="450720" y="1596960"/>
            <a:chExt cx="8242560" cy="454176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1596960"/>
              <a:ext cx="824256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DF data and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The GRIN Index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Answering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Arial"/>
              </a:rPr>
              <a:t>Experimental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FBCD67-F314-4EAF-B870-9DF1611317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82296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for indexing large RDF graphs adapted to the characteristics of RDF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expensive join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better query times than Jena2, Sesame and RDF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and future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itstream Vera Sans"/>
              </a:rPr>
              <a:t>Disk-based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Bitstream Vera Sans"/>
              </a:rPr>
              <a:t>Analysis of overlap and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61D20-A313-4D91-8289-5746FFE5CE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DF graph example (ChefMo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98B349-B8E8-4EF9-825C-4D5F556D10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990720"/>
            <a:ext cx="5667480" cy="5140080"/>
            <a:chOff x="1295280" y="990720"/>
            <a:chExt cx="5667480" cy="51400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295280" y="990720"/>
              <a:ext cx="56674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295280" y="990720"/>
              <a:ext cx="566748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DF query examp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B8189B-8AC2-4C24-AEE9-AADC6B0819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09960" y="2660760"/>
            <a:ext cx="4924080" cy="2409840"/>
            <a:chOff x="2109960" y="2660760"/>
            <a:chExt cx="4924080" cy="240984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2109960" y="2660760"/>
              <a:ext cx="492408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109960" y="2660760"/>
              <a:ext cx="4924080" cy="24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ry example in SPARQ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75DD5E-6F25-4713-9CC4-23021D0899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81080" y="1371600"/>
            <a:ext cx="4924440" cy="2409840"/>
            <a:chOff x="1981080" y="1371600"/>
            <a:chExt cx="4924440" cy="24098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981080" y="1371600"/>
              <a:ext cx="492444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981080" y="1371600"/>
              <a:ext cx="4924440" cy="24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32240" y="1600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53640" y="4191120"/>
            <a:ext cx="740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?v1 ?v2 ?v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?v1 attire ?v3) . (?v1 cuisine Italian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?v2 attire ?v3) . (?v2 cuisine Italian) . (?v2 location Norfolk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Norfolk locatedIn NE/USA)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hefM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tive RDF systems: Jena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es RDF as (subject, property, value) in a relational 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xes on each of the three attrib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lates SPARQL/RDQL into 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5800A-8784-4B85-81BD-BA67C458CE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4419720" cy="216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0200" y="38862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92840" y="43434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4419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tive RDF systems: Sesa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ekstra et al., ISWC 20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same SAIL API improves on Je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Supports RDF Schema i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Separates RDFS from the tripl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Bitstream Vera Sans"/>
              </a:rPr>
              <a:t>Supports database schema generation based on the underlying RDF schema of a data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lem of too many joins rem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9919DB-F1B0-44E3-860C-092AE908B9C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22:46:35Z</dcterms:created>
  <dc:creator>Octavian Udrea</dc:creator>
  <dc:description/>
  <dc:language>en-US</dc:language>
  <cp:lastModifiedBy>Octavian Udrea</cp:lastModifiedBy>
  <dcterms:modified xsi:type="dcterms:W3CDTF">2007-07-26T03:53:30Z</dcterms:modified>
  <cp:revision>232</cp:revision>
  <dc:subject/>
  <dc:title>Slide 1</dc:title>
</cp:coreProperties>
</file>